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FA65-0128-4DDD-BA82-2C5AAB216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898F-86E9-4DE9-AB10-975F4E3F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1CC9-F21E-463C-8A3C-AC1EEADE2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2748-7B59-4FE8-A0C5-6ADF7FDAD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7BB7-6649-4E8C-9731-563473C78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B3B2-E745-498C-86D9-2F4D6D4A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EEE6-377B-4AFC-B59F-9C933004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069A-B749-4FEF-BAD4-A49D4071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C8FE-1CEE-4BDF-9668-D7C143AF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CDE5-93C0-4B75-B353-D7B4CBEA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8836-E4E2-4AD2-AC09-B26ABB9D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37F3-E5F3-47A1-B745-34F75853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44AA-5D21-4D43-AEB8-922038C7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F880-1B25-44E8-9727-C0DFD050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6830-6137-434E-9CA1-0A7BC4D6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5ADA-93C8-4A87-B23B-ACBA0E5FD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B6F4-68CF-4EA8-A631-30FCC9E02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CBB7-9076-4877-8BBA-C6F36BB9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29AC-D2A0-41EF-914F-F824A84B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948E-0C0E-4052-9B1B-25E89DEE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7978-CE56-45DD-AAAF-069EBC3B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5D4C-446E-401A-9D97-BED7EE94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EE4B-612F-49DC-A3F0-2674FA5C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F35E-F779-4891-9A6D-9C0EF69E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244C-1633-47AA-96F9-89EA306609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24AD-D370-4E11-BF13-AC7850CAA8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termining Continental vs. Maritime Clim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erature Rang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Precipi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son of Maximum Dis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mperature Ran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fference between the highest average monthly temperature and the lowest monthly 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gt; 25 C° = continen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lt; 25 C° = mari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20° C and 5° C = 25 C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2° C and 2 ° C  = 10 C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tal Precipit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monthly precipitation tot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gt; 1000 mm = mari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lt; 1000 mm = continen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ason of Maximum Distrib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ter – add totals for October – M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er – add totals for April – Septe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er maximum – Continen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ter maximum - Mari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5448240" y="2286000"/>
            <a:ext cx="36957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3809880" cy="35049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876920" y="1828800"/>
            <a:ext cx="3733560" cy="36608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inental and Maritime Clim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8:01:56Z</dcterms:created>
  <dc:creator>OCDSB User</dc:creator>
  <dc:description/>
  <dc:language>en-US</dc:language>
  <cp:lastModifiedBy>OCDSB User</cp:lastModifiedBy>
  <dcterms:modified xsi:type="dcterms:W3CDTF">2012-03-26T18:25:06Z</dcterms:modified>
  <cp:revision>6</cp:revision>
  <dc:subject/>
  <dc:title>Determining Continental vs. Maritime Climates</dc:title>
</cp:coreProperties>
</file>